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B4CC-27CD-45E3-B7ED-4DBD48A6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8BF77-94E2-4B78-9C27-38C2A56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61703-7B07-4F8F-890E-F518874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C37F5-F9B7-4336-B941-921D4EA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5D8D3-5DDF-4191-B13C-E815A9E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E8D11-E5C3-40F8-958C-CF347AF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17B5A-0EAA-44F1-A74A-5B56ACC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D0371-B324-47B9-9C71-0F0C05A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52F2-2EE9-4A1B-B51F-F2BECC70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135E-EEE8-4FE8-8505-AFF0EC7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4C416-014A-4B4B-B20A-1F991BDC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4994E-2586-4ECB-AD49-D96DDBFD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FB9-363F-4B57-8F3F-447051F7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09480" y="1835280"/>
            <a:ext cx="7910640" cy="240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" + 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 &lt; MIN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th is a wonderful thing. Enjo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ge is a state of min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758680" y="838080"/>
            <a:ext cx="317052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ag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is a state of m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095200" y="3886200"/>
            <a:ext cx="4511880" cy="176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Another 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ag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th is a wonderful thing. Enj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is a state of m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1676520" y="5381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button that can be toggl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presen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a push button, which generates an action event, a check box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 ev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it change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is used to define item event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eck box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 when it is tog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a program that uses check boxes to determine the style of a label's text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which embodies a character font'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name (such as Times or Cour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 (bold, italic, or b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yleOption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yleOption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tyl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tyl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7"/>
          <p:cNvGrpSpPr/>
          <p:nvPr/>
        </p:nvGrpSpPr>
        <p:grpSpPr>
          <a:xfrm>
            <a:off x="2514600" y="533520"/>
            <a:ext cx="4191120" cy="1904760"/>
            <a:chOff x="2514600" y="533520"/>
            <a:chExt cx="4191120" cy="1904760"/>
          </a:xfrm>
        </p:grpSpPr>
        <p:sp>
          <p:nvSpPr>
            <p:cNvPr id="451" name="TextBox 5"/>
            <p:cNvSpPr/>
            <p:nvPr/>
          </p:nvSpPr>
          <p:spPr>
            <a:xfrm>
              <a:off x="2514600" y="533520"/>
              <a:ext cx="419112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6" descr="StyleOptions1.png"/>
            <p:cNvPicPr/>
            <p:nvPr/>
          </p:nvPicPr>
          <p:blipFill>
            <a:blip r:embed="rId1"/>
            <a:stretch/>
          </p:blipFill>
          <p:spPr>
            <a:xfrm>
              <a:off x="2705040" y="717480"/>
              <a:ext cx="3810240" cy="15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12"/>
          <p:cNvGrpSpPr/>
          <p:nvPr/>
        </p:nvGrpSpPr>
        <p:grpSpPr>
          <a:xfrm>
            <a:off x="2514600" y="2914560"/>
            <a:ext cx="4191120" cy="1905120"/>
            <a:chOff x="2514600" y="2914560"/>
            <a:chExt cx="4191120" cy="1905120"/>
          </a:xfrm>
        </p:grpSpPr>
        <p:sp>
          <p:nvSpPr>
            <p:cNvPr id="454" name="TextBox 5"/>
            <p:cNvSpPr/>
            <p:nvPr/>
          </p:nvSpPr>
          <p:spPr>
            <a:xfrm>
              <a:off x="2514600" y="2914560"/>
              <a:ext cx="419112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11" descr="StyleOptions2.png"/>
            <p:cNvPicPr/>
            <p:nvPr/>
          </p:nvPicPr>
          <p:blipFill>
            <a:blip r:embed="rId2"/>
            <a:stretch/>
          </p:blipFill>
          <p:spPr>
            <a:xfrm>
              <a:off x="2705040" y="3092400"/>
              <a:ext cx="38102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609480" y="11523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say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bold, ital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panel with a label and some check boxes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trol the style of the label's fo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Say it with style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Font.PLAIN, 3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("Bol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("Itali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.addItem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.addItem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sayin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itali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both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dates the style of the label font sty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tateChanged (Item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= Font.PL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old.isSelected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= Font.BO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talic.isSelected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+= Font.ITAL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style, 3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but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set of mutually exclusive options – only one can be selected at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radio button from a group is selected, the button that is currently "on" in the group is automatically togg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group of radio buttons that will work together, each radio button is add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dio button generates an actio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 program that uses radio buttons to determine which line of text to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oteOption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eOption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expressions can also use the follow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 take boolean operands and produce boolea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NOT is a unary operator (it operates on one oper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AND and logical OR are binary operators (each operates on two oper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Quot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Quot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7"/>
          <p:cNvGrpSpPr/>
          <p:nvPr/>
        </p:nvGrpSpPr>
        <p:grpSpPr>
          <a:xfrm>
            <a:off x="2514600" y="533520"/>
            <a:ext cx="4191120" cy="1904760"/>
            <a:chOff x="2514600" y="533520"/>
            <a:chExt cx="4191120" cy="1904760"/>
          </a:xfrm>
        </p:grpSpPr>
        <p:sp>
          <p:nvSpPr>
            <p:cNvPr id="473" name="TextBox 5"/>
            <p:cNvSpPr/>
            <p:nvPr/>
          </p:nvSpPr>
          <p:spPr>
            <a:xfrm>
              <a:off x="2514600" y="533520"/>
              <a:ext cx="419112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6" descr="QuoteOptions1.png"/>
            <p:cNvPicPr/>
            <p:nvPr/>
          </p:nvPicPr>
          <p:blipFill>
            <a:blip r:embed="rId1"/>
            <a:stretch/>
          </p:blipFill>
          <p:spPr>
            <a:xfrm>
              <a:off x="2721960" y="732600"/>
              <a:ext cx="3784680" cy="15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2514600" y="2925720"/>
            <a:ext cx="4191120" cy="1905120"/>
            <a:chOff x="2514600" y="2925720"/>
            <a:chExt cx="4191120" cy="1905120"/>
          </a:xfrm>
        </p:grpSpPr>
        <p:sp>
          <p:nvSpPr>
            <p:cNvPr id="476" name="TextBox 5"/>
            <p:cNvSpPr/>
            <p:nvPr/>
          </p:nvSpPr>
          <p:spPr>
            <a:xfrm>
              <a:off x="2514600" y="2925720"/>
              <a:ext cx="419112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1" descr="QuoteOptions2.png"/>
            <p:cNvPicPr/>
            <p:nvPr/>
          </p:nvPicPr>
          <p:blipFill>
            <a:blip r:embed="rId2"/>
            <a:stretch/>
          </p:blipFill>
          <p:spPr>
            <a:xfrm>
              <a:off x="2705400" y="3102120"/>
              <a:ext cx="37976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547560" y="619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quo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comedy, philosophy, carpent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omedyQuote, philosophyQuote, carpentryQuo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panel with a label and a set of radio 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at control its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Quote = "Take my wife, please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Quote = "I think, therefore I am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Quote = "Measure twice. Cut once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comed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Font.BOLD, 24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Comedy"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Philosoph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Carpentr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Group grou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Grou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come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philosoph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carpent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come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philosoph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carpent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54756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all radio 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text of the label depending on which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tton was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source = event.getSour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ource == come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comed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ource == philosoph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philosoph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carpentr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f and if-els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ne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 boolean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lse; 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lse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expressions can be shown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4572000"/>
          <a:ext cx="2895840" cy="1371600"/>
        </p:xfrm>
        <a:graphic>
          <a:graphicData uri="http://schemas.openxmlformats.org/drawingml/2006/table">
            <a:tbl>
              <a:tblPr/>
              <a:tblGrid>
                <a:gridCol w="1449360"/>
                <a:gridCol w="14464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AND and Logical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&amp;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rue, and false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||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both are true, and false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AND and Logical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th table shows all possible true-false combinations of the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have two operands, there are four possible combinations of condi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3581280"/>
          <a:ext cx="5334120" cy="2286000"/>
        </p:xfrm>
        <a:graphic>
          <a:graphicData uri="http://schemas.openxmlformats.org/drawingml/2006/table">
            <a:tbl>
              <a:tblPr/>
              <a:tblGrid>
                <a:gridCol w="1067040"/>
                <a:gridCol w="121896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 that use logical operators can form complex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&lt; MAX+5 &amp;&amp; !f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rocessing…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ogical operators have lower precedence than the relationa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has higher precedenc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expressions can be evaluated using trut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2438280"/>
          <a:ext cx="7829640" cy="2203560"/>
        </p:xfrm>
        <a:graphic>
          <a:graphicData uri="http://schemas.openxmlformats.org/drawingml/2006/table">
            <a:tbl>
              <a:tblPr/>
              <a:tblGrid>
                <a:gridCol w="1839960"/>
                <a:gridCol w="1198800"/>
                <a:gridCol w="1277640"/>
                <a:gridCol w="3513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 &amp;&amp; 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-Circuited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“short-circui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ft operand is sufficient to determine the result, the right operand is not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ount != 0 &amp;&amp; total/count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esting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processing should be us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676520" y="20858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f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now look 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981880" y="4049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614520" y="3058200"/>
            <a:ext cx="2376720" cy="1053360"/>
            <a:chOff x="614520" y="3058200"/>
            <a:chExt cx="2376720" cy="1053360"/>
          </a:xfrm>
        </p:grpSpPr>
        <p:sp>
          <p:nvSpPr>
            <p:cNvPr id="145" name="Text Box 6"/>
            <p:cNvSpPr/>
            <p:nvPr/>
          </p:nvSpPr>
          <p:spPr>
            <a:xfrm>
              <a:off x="614520" y="3058200"/>
              <a:ext cx="23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s a 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reserved 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>
              <a:off x="2355840" y="3882960"/>
              <a:ext cx="5335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3548160" y="2068920"/>
            <a:ext cx="4381560" cy="1966320"/>
            <a:chOff x="3548160" y="2068920"/>
            <a:chExt cx="4381560" cy="1966320"/>
          </a:xfrm>
        </p:grpSpPr>
        <p:sp>
          <p:nvSpPr>
            <p:cNvPr id="148" name="Text Box 9"/>
            <p:cNvSpPr/>
            <p:nvPr/>
          </p:nvSpPr>
          <p:spPr>
            <a:xfrm>
              <a:off x="3548160" y="2068920"/>
              <a:ext cx="4381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must b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boolean expression. It m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evaluate to either true or fals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"/>
            <p:cNvSpPr/>
            <p:nvPr/>
          </p:nvSpPr>
          <p:spPr>
            <a:xfrm flipH="1">
              <a:off x="4535280" y="357804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840240" y="4950000"/>
            <a:ext cx="8078040" cy="1296000"/>
            <a:chOff x="840240" y="4950000"/>
            <a:chExt cx="8078040" cy="1296000"/>
          </a:xfrm>
        </p:grpSpPr>
        <p:sp>
          <p:nvSpPr>
            <p:cNvPr id="151" name="Text Box 12"/>
            <p:cNvSpPr/>
            <p:nvPr/>
          </p:nvSpPr>
          <p:spPr>
            <a:xfrm>
              <a:off x="840240" y="5420520"/>
              <a:ext cx="8078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f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true,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state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execut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f it is false,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state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skipp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 flipV="1">
              <a:off x="4260960" y="49500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will examine programming statements that allow u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ing steps in a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f and if-else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n if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3200400" y="1447560"/>
            <a:ext cx="2057400" cy="1752840"/>
            <a:chOff x="3200400" y="1447560"/>
            <a:chExt cx="2057400" cy="1752840"/>
          </a:xfrm>
        </p:grpSpPr>
        <p:sp>
          <p:nvSpPr>
            <p:cNvPr id="156" name="AutoShape 4"/>
            <p:cNvSpPr/>
            <p:nvPr/>
          </p:nvSpPr>
          <p:spPr>
            <a:xfrm>
              <a:off x="3200400" y="213372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3566520" y="232992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AutoShape 6"/>
            <p:cNvCxnSpPr/>
            <p:nvPr/>
          </p:nvCxnSpPr>
          <p:spPr>
            <a:xfrm>
              <a:off x="4228920" y="144756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159" name="AutoShape 7"/>
          <p:cNvCxnSpPr/>
          <p:nvPr/>
        </p:nvCxnSpPr>
        <p:spPr>
          <a:xfrm>
            <a:off x="4228920" y="440352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160" name="Group 8"/>
          <p:cNvGrpSpPr/>
          <p:nvPr/>
        </p:nvGrpSpPr>
        <p:grpSpPr>
          <a:xfrm>
            <a:off x="3429000" y="3200400"/>
            <a:ext cx="1600200" cy="1217160"/>
            <a:chOff x="3429000" y="3200400"/>
            <a:chExt cx="1600200" cy="1217160"/>
          </a:xfrm>
        </p:grpSpPr>
        <p:sp>
          <p:nvSpPr>
            <p:cNvPr id="161" name="Rectangle 9"/>
            <p:cNvSpPr/>
            <p:nvPr/>
          </p:nvSpPr>
          <p:spPr>
            <a:xfrm>
              <a:off x="3429000" y="403668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3541680" y="40359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11"/>
            <p:cNvCxnSpPr>
              <a:stCxn id="156" idx="2"/>
              <a:endCxn id="161" idx="0"/>
            </p:cNvCxnSpPr>
            <p:nvPr/>
          </p:nvCxnSpPr>
          <p:spPr>
            <a:xfrm flipH="1">
              <a:off x="4226760" y="3200400"/>
              <a:ext cx="2520" cy="8388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64" name="Text Box 12"/>
            <p:cNvSpPr/>
            <p:nvPr/>
          </p:nvSpPr>
          <p:spPr>
            <a:xfrm>
              <a:off x="4246560" y="33501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4266720" y="2666880"/>
            <a:ext cx="2090160" cy="2297160"/>
            <a:chOff x="4266720" y="2666880"/>
            <a:chExt cx="2090160" cy="2297160"/>
          </a:xfrm>
        </p:grpSpPr>
        <p:sp>
          <p:nvSpPr>
            <p:cNvPr id="166" name="Text Box 14"/>
            <p:cNvSpPr/>
            <p:nvPr/>
          </p:nvSpPr>
          <p:spPr>
            <a:xfrm>
              <a:off x="5628960" y="365652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AutoShape 15"/>
            <p:cNvCxnSpPr/>
            <p:nvPr/>
          </p:nvCxnSpPr>
          <p:spPr>
            <a:xfrm flipH="1">
              <a:off x="4266720" y="2666880"/>
              <a:ext cx="991440" cy="2286720"/>
            </a:xfrm>
            <a:prstGeom prst="bentConnector4">
              <a:avLst>
                <a:gd name="adj1" fmla="val -33309"/>
                <a:gd name="adj2" fmla="val 100472"/>
              </a:avLst>
            </a:prstGeom>
            <a:ln w="31680">
              <a:solidFill>
                <a:srgbClr val="ff0000"/>
              </a:solidFill>
              <a:miter/>
            </a:ln>
          </p:spPr>
        </p:cxnSp>
      </p:grpSp>
      <p:sp>
        <p:nvSpPr>
          <p:cNvPr id="168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controll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indented to indicate tha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a consistent indentation style makes a program easier to read an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ignores indentation, which can lead to errors if the indentation is not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81080" y="4343400"/>
            <a:ext cx="5715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"Always code as if the person who ends up maintaining your code will be a violent psychopath who knows where you live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- Martin G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following statem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1096920" y="190512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!= stock + ware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entoryError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1170360" y="41148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ound || !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O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following statem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1096920" y="190512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!= stock + ware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entoryError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70360" y="41148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ound || !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O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722520" y="2971800"/>
            <a:ext cx="74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Sets the boolean variable to true if the valu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s not equal to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e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686520" y="52578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rints "Ok"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is true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f-els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se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dded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o mak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-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tatement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ecuted;  if the condition is false,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tatemen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the other will be executed, but not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71136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ag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e number of hours worked and calculates w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= 8.25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ular pa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= 40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hours in a work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ay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09480" y="116532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hours work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y overtime at "time and a hal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ours &gt;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STANDARD * RATE + (hours-STANDARD) * (RATE *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hours * 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Gross earnings: " + fmt.format(pay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09480" y="116532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hours work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y overtime at "time and a hal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ours &gt;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STANDARD * RATE + (hours-STANDARD) * (RATE *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hours * 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Gross earnings: " + fmt.format(pay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231280" y="1066680"/>
            <a:ext cx="47556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hours worked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 earnings: $404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n if-els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048120" y="1294920"/>
            <a:ext cx="2057400" cy="1752840"/>
            <a:chOff x="3048120" y="1294920"/>
            <a:chExt cx="2057400" cy="1752840"/>
          </a:xfrm>
        </p:grpSpPr>
        <p:sp>
          <p:nvSpPr>
            <p:cNvPr id="197" name="AutoShape 23"/>
            <p:cNvSpPr/>
            <p:nvPr/>
          </p:nvSpPr>
          <p:spPr>
            <a:xfrm>
              <a:off x="3048120" y="198108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3414240" y="217728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AutoShape 25"/>
            <p:cNvCxnSpPr/>
            <p:nvPr/>
          </p:nvCxnSpPr>
          <p:spPr>
            <a:xfrm>
              <a:off x="4076640" y="12949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200" name="AutoShape 26"/>
          <p:cNvCxnSpPr/>
          <p:nvPr/>
        </p:nvCxnSpPr>
        <p:spPr>
          <a:xfrm>
            <a:off x="4076280" y="432864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201" name="Group 43"/>
          <p:cNvGrpSpPr/>
          <p:nvPr/>
        </p:nvGrpSpPr>
        <p:grpSpPr>
          <a:xfrm>
            <a:off x="3276720" y="3048120"/>
            <a:ext cx="1600200" cy="1295280"/>
            <a:chOff x="3276720" y="3048120"/>
            <a:chExt cx="1600200" cy="1295280"/>
          </a:xfrm>
        </p:grpSpPr>
        <p:sp>
          <p:nvSpPr>
            <p:cNvPr id="202" name="Rectangle 29"/>
            <p:cNvSpPr/>
            <p:nvPr/>
          </p:nvSpPr>
          <p:spPr>
            <a:xfrm>
              <a:off x="3276720" y="39625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3324960" y="3961800"/>
              <a:ext cx="15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AutoShape 31"/>
            <p:cNvCxnSpPr>
              <a:stCxn id="197" idx="2"/>
              <a:endCxn id="202" idx="0"/>
            </p:cNvCxnSpPr>
            <p:nvPr/>
          </p:nvCxnSpPr>
          <p:spPr>
            <a:xfrm>
              <a:off x="4076280" y="3048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05" name="Text Box 32"/>
            <p:cNvSpPr/>
            <p:nvPr/>
          </p:nvSpPr>
          <p:spPr>
            <a:xfrm>
              <a:off x="4094280" y="327600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6" name="AutoShape 42"/>
          <p:cNvCxnSpPr>
            <a:stCxn id="207" idx="2"/>
          </p:cNvCxnSpPr>
          <p:nvPr/>
        </p:nvCxnSpPr>
        <p:spPr>
          <a:xfrm rot="5400000">
            <a:off x="4775760" y="3668400"/>
            <a:ext cx="548640" cy="1869480"/>
          </a:xfrm>
          <a:prstGeom prst="bentConnector2">
            <a:avLst/>
          </a:prstGeom>
          <a:ln w="31680">
            <a:solidFill>
              <a:srgbClr val="ff0000"/>
            </a:solidFill>
            <a:miter/>
          </a:ln>
        </p:spPr>
      </p:cxnSp>
      <p:grpSp>
        <p:nvGrpSpPr>
          <p:cNvPr id="208" name="Group 45"/>
          <p:cNvGrpSpPr/>
          <p:nvPr/>
        </p:nvGrpSpPr>
        <p:grpSpPr>
          <a:xfrm>
            <a:off x="5105520" y="2514600"/>
            <a:ext cx="1676160" cy="1828800"/>
            <a:chOff x="5105520" y="2514600"/>
            <a:chExt cx="1676160" cy="1828800"/>
          </a:xfrm>
        </p:grpSpPr>
        <p:sp>
          <p:nvSpPr>
            <p:cNvPr id="209" name="Text Box 34"/>
            <p:cNvSpPr/>
            <p:nvPr/>
          </p:nvSpPr>
          <p:spPr>
            <a:xfrm>
              <a:off x="5986080" y="3276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AutoShape 35"/>
            <p:cNvCxnSpPr>
              <a:endCxn id="207" idx="0"/>
            </p:cNvCxnSpPr>
            <p:nvPr/>
          </p:nvCxnSpPr>
          <p:spPr>
            <a:xfrm flipH="1" rot="16200000">
              <a:off x="4820400" y="2799360"/>
              <a:ext cx="1448640" cy="878400"/>
            </a:xfrm>
            <a:prstGeom prst="bentConnector3">
              <a:avLst>
                <a:gd name="adj1" fmla="val 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11" name="Group 44"/>
            <p:cNvGrpSpPr/>
            <p:nvPr/>
          </p:nvGrpSpPr>
          <p:grpSpPr>
            <a:xfrm>
              <a:off x="5181480" y="3961800"/>
              <a:ext cx="1600200" cy="381600"/>
              <a:chOff x="5181480" y="3961800"/>
              <a:chExt cx="1600200" cy="3816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5181480" y="39625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39"/>
              <p:cNvSpPr/>
              <p:nvPr/>
            </p:nvSpPr>
            <p:spPr>
              <a:xfrm>
                <a:off x="5230080" y="3961800"/>
                <a:ext cx="150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i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 example that uses a class that represents a coin that can be fl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ata is used to indicate which face (heads or tails) is currently sh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Flip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676520" y="15336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48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Flip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Fl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Coin object, flips it,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myCoi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in.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Co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yCoin.isHead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win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tter luck next ti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0948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Flip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Fl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Coin object, flips it,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myCoi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in.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Co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yCoin.isHead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win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tter luck next ti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80000" y="457200"/>
            <a:ext cx="304884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tter luck nex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in with two sides that can be flipp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S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ILS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coin by flipping it initi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lips the coin by randomly choosing a face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i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Math.random() *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rue if the current face of the coin is h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Heads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ace == HEAD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609480" y="12412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urrent face of the coin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face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ace == HEA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 = "Heads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 = "Tails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ntation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dentation is for the human reader, and is ignored by th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epth &gt;= UPPER_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eseting Delt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what the indentation impli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set to 0 no matter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523880" y="3124080"/>
            <a:ext cx="1371600" cy="121932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78560 h 1219320"/>
              <a:gd name="textAreaBottom" fmla="*/ 1040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762" y="16478"/>
                </a:moveTo>
                <a:cubicBezTo>
                  <a:pt x="19069" y="14874"/>
                  <a:pt x="19784" y="12869"/>
                  <a:pt x="19784" y="10800"/>
                </a:cubicBezTo>
                <a:cubicBezTo>
                  <a:pt x="19784" y="5838"/>
                  <a:pt x="15761" y="1816"/>
                  <a:pt x="10800" y="1816"/>
                </a:cubicBezTo>
                <a:cubicBezTo>
                  <a:pt x="8730" y="1815"/>
                  <a:pt x="6725" y="2530"/>
                  <a:pt x="5121" y="3837"/>
                </a:cubicBezTo>
                <a:lnTo>
                  <a:pt x="17762" y="16478"/>
                </a:lnTo>
                <a:close/>
                <a:moveTo>
                  <a:pt x="3837" y="5121"/>
                </a:moveTo>
                <a:cubicBezTo>
                  <a:pt x="2530" y="6725"/>
                  <a:pt x="1815" y="8730"/>
                  <a:pt x="1815" y="10799"/>
                </a:cubicBezTo>
                <a:cubicBezTo>
                  <a:pt x="1816" y="15761"/>
                  <a:pt x="5838" y="19784"/>
                  <a:pt x="10800" y="19784"/>
                </a:cubicBezTo>
                <a:cubicBezTo>
                  <a:pt x="12869" y="19784"/>
                  <a:pt x="14874" y="19069"/>
                  <a:pt x="16478" y="17762"/>
                </a:cubicBezTo>
                <a:lnTo>
                  <a:pt x="3837" y="5121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76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statements can be grouped together in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 stat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mited by b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ck statement can be used wherever a statement is called for in the Java syntax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480680" y="3817800"/>
            <a:ext cx="63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, 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, or both, could govern block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sing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405080" y="2223360"/>
            <a:ext cx="658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otal: " + tot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 = total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3808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uessin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block statement in an if-el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lays a simple guessing game with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, gu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generator.nextInt(MA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609480" y="1305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'm thinking of a number between 1 an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MAX + ". Guess what it i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ess == 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got it! Good guessing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is not correct, sorr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 was " + 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of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pecified otherwise, the order of statement execution through a method is linear: one afte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 statements allow us to make decisions and perform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ecisions are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at evaluate to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statement execution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ow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09480" y="1305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'm thinking of a number between 1 an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MAX + ". Guess what it i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ess == 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got it! Good guessing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is not correct, sorr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 was " + 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533520" y="1219320"/>
            <a:ext cx="807696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'm thinking of a number between 1 and 10. Guess what it is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is not correct, sor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wa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executed as a result of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could be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is matched to the last unmatch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matter what the indentation impl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es can be used to spec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o whic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be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OfThre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inOfThre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if stat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Of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ree integers from the user and determines the small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, num2, num3, min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three integer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3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2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nimum value: " + m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2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nimum value: " + m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602160" y="1066680"/>
            <a:ext cx="29268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integ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4  69 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 value: 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676520" y="2638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data using boolean expressions, it's important to understand the nuances of certain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some key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floating point values fo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strings (alphabetical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object vs. comparing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Floa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rarely use the equality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comparing two floating point valu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loating point values are equal only if their underlying binary representations match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s often result in slight differences that may be ir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situations, you might consider two floating point numbers to be "close enough" even if they aren't exactly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Floa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e equality of two floats, use the following techni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h.abs(f1 - f2) &lt;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"Essentially equa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 between the two floating point values is less than the tolerance, they are considered to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lerance could be set to any appropriate level, such as 0.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discussed, Java character data is based on the 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ode establishes a particular numeric value for each character, and therefore a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relational operators on character data based on this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+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ess than the character '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comes before it in the 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C provides an overview of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s us choose which statement will be executed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ec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statements give us the power to make basic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onditional statements are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d if-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explore the switch statement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nicode, the digit characters (0-9) are contiguous an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the uppercase letters (A-Z) and lowercase letters (a-z) are contiguous an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076480" y="3581280"/>
          <a:ext cx="4552920" cy="1828800"/>
        </p:xfrm>
        <a:graphic>
          <a:graphicData uri="http://schemas.openxmlformats.org/drawingml/2006/table">
            <a:tbl>
              <a:tblPr/>
              <a:tblGrid>
                <a:gridCol w="205740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through 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through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through 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 Java a character string i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can be called with strings to determine if two strings contain exactly the same characters in the sam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boolea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025640" y="46504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ame1.equals(name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not use the relational operators to compare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for determining if one string comes befor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1.compareTo(nam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zero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qual (contain the same charac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negative value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ess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positive value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comparing characters and strings is based on a character set, it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76960" y="282996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sult = name1.comareTo(name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result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1 + "comes firs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result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2 + "comes firs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xicographic Or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ographic ordering is not strictly alphabetical when uppercase and lowercase characters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Great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before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fantastic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all of the uppercase letters come before all of the lowercase letters in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short strings come before longer strings with the same prefix (lexicographic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book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bef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bookcas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== operator can be applied to objects – it returns true if the two references are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defined for all objects, but unless we redefine it when we write a class, it has the same semantics as the ==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been redefin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o compare the characters in the two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write a class, you can redefin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return true under whatever conditions a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676520" y="31719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 us to execute a statement multipl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y are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conditional statements, they are controlled by boolean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three kinds of repetition statement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 are discussed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le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,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ndition is evaluated again, and if it is still true, the statement is executed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while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0"/>
          <p:cNvGrpSpPr/>
          <p:nvPr/>
        </p:nvGrpSpPr>
        <p:grpSpPr>
          <a:xfrm>
            <a:off x="3429000" y="3278160"/>
            <a:ext cx="1600200" cy="1293840"/>
            <a:chOff x="3429000" y="3278160"/>
            <a:chExt cx="1600200" cy="1293840"/>
          </a:xfrm>
        </p:grpSpPr>
        <p:grpSp>
          <p:nvGrpSpPr>
            <p:cNvPr id="306" name="Group 19"/>
            <p:cNvGrpSpPr/>
            <p:nvPr/>
          </p:nvGrpSpPr>
          <p:grpSpPr>
            <a:xfrm>
              <a:off x="3429000" y="4190040"/>
              <a:ext cx="1600200" cy="381960"/>
              <a:chOff x="3429000" y="4190040"/>
              <a:chExt cx="1600200" cy="381960"/>
            </a:xfrm>
          </p:grpSpPr>
          <p:sp>
            <p:nvSpPr>
              <p:cNvPr id="307" name="Rectangle 5"/>
              <p:cNvSpPr/>
              <p:nvPr/>
            </p:nvSpPr>
            <p:spPr>
              <a:xfrm>
                <a:off x="3429000" y="4190760"/>
                <a:ext cx="1600200" cy="3812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"/>
              <p:cNvSpPr/>
              <p:nvPr/>
            </p:nvSpPr>
            <p:spPr>
              <a:xfrm>
                <a:off x="3541680" y="419004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09" name="AutoShape 7"/>
            <p:cNvCxnSpPr>
              <a:stCxn id="310" idx="2"/>
              <a:endCxn id="307" idx="0"/>
            </p:cNvCxnSpPr>
            <p:nvPr/>
          </p:nvCxnSpPr>
          <p:spPr>
            <a:xfrm flipH="1">
              <a:off x="4226760" y="3278160"/>
              <a:ext cx="252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11" name="Text Box 8"/>
            <p:cNvSpPr/>
            <p:nvPr/>
          </p:nvSpPr>
          <p:spPr>
            <a:xfrm>
              <a:off x="4246560" y="350424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AutoShape 9"/>
          <p:cNvCxnSpPr/>
          <p:nvPr/>
        </p:nvCxnSpPr>
        <p:spPr>
          <a:xfrm rot="10800000">
            <a:off x="3199680" y="2742480"/>
            <a:ext cx="229320" cy="1639080"/>
          </a:xfrm>
          <a:prstGeom prst="bentConnector3">
            <a:avLst>
              <a:gd name="adj1" fmla="val 200000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313" name="Group 15"/>
          <p:cNvGrpSpPr/>
          <p:nvPr/>
        </p:nvGrpSpPr>
        <p:grpSpPr>
          <a:xfrm>
            <a:off x="4172760" y="2743200"/>
            <a:ext cx="2317320" cy="2590920"/>
            <a:chOff x="4172760" y="2743200"/>
            <a:chExt cx="2317320" cy="2590920"/>
          </a:xfrm>
        </p:grpSpPr>
        <p:cxnSp>
          <p:nvCxnSpPr>
            <p:cNvPr id="314" name="AutoShape 16"/>
            <p:cNvCxnSpPr>
              <a:stCxn id="310" idx="3"/>
            </p:cNvCxnSpPr>
            <p:nvPr/>
          </p:nvCxnSpPr>
          <p:spPr>
            <a:xfrm flipH="1">
              <a:off x="4172760" y="2743200"/>
              <a:ext cx="1013400" cy="2591280"/>
            </a:xfrm>
            <a:prstGeom prst="bentConnector4">
              <a:avLst>
                <a:gd name="adj1" fmla="val -22565"/>
                <a:gd name="adj2" fmla="val 83451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15" name="Text Box 17"/>
            <p:cNvSpPr/>
            <p:nvPr/>
          </p:nvSpPr>
          <p:spPr>
            <a:xfrm>
              <a:off x="5762160" y="3301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1"/>
          <p:cNvGrpSpPr/>
          <p:nvPr/>
        </p:nvGrpSpPr>
        <p:grpSpPr>
          <a:xfrm>
            <a:off x="3200400" y="1523520"/>
            <a:ext cx="2057400" cy="1752840"/>
            <a:chOff x="3200400" y="1523520"/>
            <a:chExt cx="2057400" cy="1752840"/>
          </a:xfrm>
        </p:grpSpPr>
        <p:cxnSp>
          <p:nvCxnSpPr>
            <p:cNvPr id="317" name="AutoShape 14"/>
            <p:cNvCxnSpPr>
              <a:endCxn id="310" idx="0"/>
            </p:cNvCxnSpPr>
            <p:nvPr/>
          </p:nvCxnSpPr>
          <p:spPr>
            <a:xfrm>
              <a:off x="4228920" y="15235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318" name="Group 18"/>
            <p:cNvGrpSpPr/>
            <p:nvPr/>
          </p:nvGrpSpPr>
          <p:grpSpPr>
            <a:xfrm>
              <a:off x="3200400" y="2209680"/>
              <a:ext cx="2057400" cy="1066680"/>
              <a:chOff x="3200400" y="2209680"/>
              <a:chExt cx="2057400" cy="1066680"/>
            </a:xfrm>
          </p:grpSpPr>
          <p:sp>
            <p:nvSpPr>
              <p:cNvPr id="310" name="AutoShape 12"/>
              <p:cNvSpPr/>
              <p:nvPr/>
            </p:nvSpPr>
            <p:spPr>
              <a:xfrm>
                <a:off x="3200400" y="2209680"/>
                <a:ext cx="2057400" cy="106668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13"/>
              <p:cNvSpPr/>
              <p:nvPr/>
            </p:nvSpPr>
            <p:spPr>
              <a:xfrm>
                <a:off x="3568320" y="242172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ition often uses one of Java'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ality operat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ll return boolean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ess than or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ater than or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the equality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 assignment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while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false initially, the statement is never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782000" y="1762200"/>
            <a:ext cx="56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 &lt;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inel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some examples of loop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p can be used to mainta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nning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ntinel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pecial input value that represents the end of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54756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ver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while loop, a sentinel value, an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nning s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the average of a set of values enter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running sum is printed as the numbers are ent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0, value, 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integer (0 to quit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609480" y="15238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alue != 0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ntinel value of 0 to terminat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sum so far is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integer (0 to quit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609480" y="15238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 values were entere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um /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average is " + fmt.format(averag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609480" y="15238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 values were entere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um /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average is " + fmt.format(averag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2446920" y="1295280"/>
            <a:ext cx="438984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1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1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is 39.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p can also be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put va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king a program mo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generally a good idea to verify that input is valid (in whatever sense) when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Percent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54756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inPercent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while loop for input valid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Perce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the percentage of games won by a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GAM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games won (0 to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NUM_GAMES + "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547560" y="13809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on &lt; 0 || won &gt; NUM_G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nvalid input. Please reent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won / NUM_G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inning percentage: " + fmt.format(ratio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547560" y="13809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on &lt; 0 || won &gt; NUM_G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nvalid input. Please reent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won / NUM_G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inning percentage: " + fmt.format(ratio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856520" y="1143000"/>
            <a:ext cx="560880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games won (0 to 12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 input. Please reent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 input. Please reent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nning percentage: 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with its boolea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um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sum –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 condition is evaluated: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ither greater than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it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is true, the assignment statement is executed; if it isn't, it is sk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eventually must make the condition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it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will execute until the user interrupts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ommon logica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always double check the logic of a program to ensure that your loops will terminate n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n infinite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p will continue executing until interrupted (Control-C) or until an underflow error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782000" y="1857600"/>
            <a:ext cx="56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 &lt;=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nes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, loops can be nest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body of a loop can contain anoth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teration of the outer loop, the inner loop iterates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lindrome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lindrome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while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lindrome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ests strings to see if they are palindro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, another = "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,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s y 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potential palindrom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str.length()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54756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.charAt(left) == str.charAt(right) &amp;&amp; 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--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NOT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est another palindrom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4756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.charAt(left) == str.charAt(right) &amp;&amp; 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--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NOT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est another palindrom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2311560" y="685800"/>
            <a:ext cx="4268160" cy="5173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ble was I ere I saw el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bracada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NOT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imes will the string "Here" be pri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947160" y="1905120"/>
            <a:ext cx="639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1 &lt;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2 &l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Her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imes will the string "Here" be pri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947160" y="1905120"/>
            <a:ext cx="639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1 &lt;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2 &l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Her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5877720" y="28195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0 * 19 = 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676520" y="3733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allows you to process a collection of items on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ts you step through each item in turn and process i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returns true if there is at least one more item to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nex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 objects are defined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, which is discussed further in 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09480" y="71136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e user's age and prints comments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OR = 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your ag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lasses in the Java standard class library are it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rue if there is more data to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he next scanned token as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so has variations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for specific data types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terator is particularly helpful when reading input from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ed to read and process a list of URLs stored in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anner can be set up to read each line of the input until the end of the file is encou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scanner can be set up for each URL to process each part of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Dissecto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54756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RLDissecto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Scanner to read file input and par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ing alternative delimi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Dis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urls from a file and prints their path compon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 throws IO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ur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fileScan, urlSc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("urls.inp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d process each lin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le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 = file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URL: " + 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.useDelimiter("/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each part of the 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url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" + url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d process each lin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le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 = file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URL: " + 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.useDelimiter("/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each part of the 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url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" + url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005560" y="447840"/>
            <a:ext cx="4999320" cy="565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goog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goog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linux.org/info/gnu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linu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nu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thelyric.com/calend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lyr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cs.vt.edu/undergraduate/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s.v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dergrad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youtube.com/watch?v=EHCRimwRG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tub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tch?v=EHCRimwRG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676520" y="42768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stores a list of objects, and is often processed using a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ference each object in the list using a numeric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grows and shrinks as needed, adjusting its capacity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values of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at 0 (not 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ashfu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leep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app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pe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an be inserted and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es of the elements adjust accord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List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add (E ob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int index, E ob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remove (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get (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Empt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iz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object stored in the list is established 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s cre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ook&gt; list = new ArrayList&lt;Book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kes use of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provide additional type checking at compi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nnot store primitive types, but that's what wrapper classes ar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tl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09480" y="1835280"/>
            <a:ext cx="7910640" cy="240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" + 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 &lt; MIN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th is a wonderful thing. Enjo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ge is a state of min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54756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eatl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ArrayList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and modifies a list of band memb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 band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Paul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Joh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Geor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= band.indexOf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remove (loc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t index 1: " + band.get(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2, "Ring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ize of the band: " + band.siz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dex &lt; band.siz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.get(index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= band.indexOf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remove (loc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t index 1: " + band.get(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2, "Ring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ize of the band: " + band.siz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dex &lt; band.siz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.get(index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619000" y="1039680"/>
            <a:ext cx="3536280" cy="27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Paul, Pete, John, Georg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Paul, John, Georg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 index 1: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the band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i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o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676520" y="48290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interactive GUIs require establishing a relationship between components and the listeners that respond to compon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ener object can be used to listen to two differen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of the event can be determined by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event passed to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Righ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Righ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547560" y="63504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eft 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547560" y="63504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eft 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5"/>
          <p:cNvGrpSpPr/>
          <p:nvPr/>
        </p:nvGrpSpPr>
        <p:grpSpPr>
          <a:xfrm>
            <a:off x="3048120" y="533520"/>
            <a:ext cx="2971800" cy="1752480"/>
            <a:chOff x="3048120" y="533520"/>
            <a:chExt cx="2971800" cy="1752480"/>
          </a:xfrm>
        </p:grpSpPr>
        <p:sp>
          <p:nvSpPr>
            <p:cNvPr id="428" name="TextBox 5"/>
            <p:cNvSpPr/>
            <p:nvPr/>
          </p:nvSpPr>
          <p:spPr>
            <a:xfrm>
              <a:off x="3048120" y="533520"/>
              <a:ext cx="2971800" cy="1752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4" descr="LeftRight.png"/>
            <p:cNvPicPr/>
            <p:nvPr/>
          </p:nvPicPr>
          <p:blipFill>
            <a:blip r:embed="rId1"/>
            <a:stretch/>
          </p:blipFill>
          <p:spPr>
            <a:xfrm>
              <a:off x="3276720" y="762120"/>
              <a:ext cx="2527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547560" y="108900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left,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button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Lef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Push a butt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4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add (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add (r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8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utton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547560" y="1089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listener for both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which button was pressed and sets th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ext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.getSource() == 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Lef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6:32:29Z</dcterms:created>
  <dc:creator>usnidem</dc:creator>
  <dc:description/>
  <dc:language>en-US</dc:language>
  <cp:lastModifiedBy>Noreen Elliott</cp:lastModifiedBy>
  <dcterms:modified xsi:type="dcterms:W3CDTF">2013-08-12T20:17:57Z</dcterms:modified>
  <cp:revision>24</cp:revision>
  <dc:subject/>
  <dc:title>Chapter #, Title</dc:title>
</cp:coreProperties>
</file>